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Garamond Semibold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aramond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Garamond Semibol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aramond Semi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Garamond Semibol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aramond Semibol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Garamond Semibol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21D6-1700-4B17-AC4A-352679DD5E85}" type="slidenum">
              <a:rPr b="0" lang="en-US" sz="1200" spc="-1" strike="noStrike">
                <a:solidFill>
                  <a:srgbClr val="000000"/>
                </a:solidFill>
                <a:latin typeface="AGaramond Semi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Garamond Semi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3651-9347-4114-B637-9C63CFDF8B3C}" type="slidenum">
              <a:rPr b="0" lang="en-US" sz="1200" spc="-1" strike="noStrike">
                <a:solidFill>
                  <a:srgbClr val="000000"/>
                </a:solidFill>
                <a:latin typeface="AGaramond Semi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Garamond Semibol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52120" y="2057400"/>
            <a:ext cx="67057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752120" y="3291480"/>
            <a:ext cx="67057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52120" y="2057400"/>
            <a:ext cx="32720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88320" y="2057400"/>
            <a:ext cx="32720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52120" y="3291480"/>
            <a:ext cx="32720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88320" y="3291480"/>
            <a:ext cx="32720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52120" y="2057400"/>
            <a:ext cx="2158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19400" y="2057400"/>
            <a:ext cx="2158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86680" y="2057400"/>
            <a:ext cx="2158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752120" y="3291480"/>
            <a:ext cx="2158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19400" y="3291480"/>
            <a:ext cx="2158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86680" y="3291480"/>
            <a:ext cx="2158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752120" y="2057400"/>
            <a:ext cx="67057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52120" y="2057400"/>
            <a:ext cx="6705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52120" y="2057400"/>
            <a:ext cx="3272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88320" y="2057400"/>
            <a:ext cx="3272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52480" y="457200"/>
            <a:ext cx="5943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52120" y="2057400"/>
            <a:ext cx="32720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8320" y="2057400"/>
            <a:ext cx="3272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752120" y="3291480"/>
            <a:ext cx="32720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52120" y="2057400"/>
            <a:ext cx="3272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8320" y="2057400"/>
            <a:ext cx="32720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88320" y="3291480"/>
            <a:ext cx="32720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52120" y="2057400"/>
            <a:ext cx="32720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88320" y="2057400"/>
            <a:ext cx="32720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52120" y="3291480"/>
            <a:ext cx="67057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2057400"/>
            <a:ext cx="6705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475200" indent="-182880">
              <a:spcBef>
                <a:spcPts val="700"/>
              </a:spcBef>
              <a:buClr>
                <a:srgbClr val="000099"/>
              </a:buClr>
              <a:buSzPct val="9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731520" indent="-1461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023840" indent="-14616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1316520" indent="-14616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1316520" indent="-146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1316520" indent="-146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solidFill>
            <a:srgbClr val="0000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Garamond Semibold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152280" y="5486400"/>
            <a:ext cx="1447920" cy="13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outhern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gional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ducation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oar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Garamond Semibold"/>
            </a:endParaRPr>
          </a:p>
        </p:txBody>
      </p:sp>
      <p:pic>
        <p:nvPicPr>
          <p:cNvPr id="4" name="Picture 18" descr=""/>
          <p:cNvPicPr/>
          <p:nvPr/>
        </p:nvPicPr>
        <p:blipFill>
          <a:blip r:embed="rId2"/>
          <a:stretch/>
        </p:blipFill>
        <p:spPr>
          <a:xfrm>
            <a:off x="228600" y="1676520"/>
            <a:ext cx="990720" cy="344520"/>
          </a:xfrm>
          <a:prstGeom prst="rect">
            <a:avLst/>
          </a:prstGeom>
          <a:ln w="0">
            <a:noFill/>
          </a:ln>
        </p:spPr>
      </p:pic>
      <p:sp>
        <p:nvSpPr>
          <p:cNvPr id="5" name="Line 20"/>
          <p:cNvSpPr/>
          <p:nvPr/>
        </p:nvSpPr>
        <p:spPr>
          <a:xfrm>
            <a:off x="1752480" y="1676520"/>
            <a:ext cx="70866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Garamond Semi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sreb.org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752120" y="2057040"/>
            <a:ext cx="678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Establishing a Culture of      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High Expect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Garamond Semibold"/>
              </a:rPr>
              <a:t>Erica Hugh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Garamond Semibold"/>
              </a:rPr>
              <a:t>James S. Rickards High Schoo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Garamond Semibold"/>
              </a:rPr>
              <a:t>Tallahassee, Florida USA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4572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Techniques for Teaching Bell-to-Bell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120" y="2057040"/>
            <a:ext cx="6705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reet students at the door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ost sponge activities for students to begin immediately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ave materials needed by students and teachers readily available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lan for smooth transitions between instructional activities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Techniques for Teaching Bell-to-Bell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120" y="2057040"/>
            <a:ext cx="6782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uild in opportunities for movement and active student engagement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eck regularly for student understanding and focus.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ave an active summary activity in every learning segment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4572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Techniques for Teaching Bell-to-Bell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52120" y="2057040"/>
            <a:ext cx="6705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esent and link the day’s objective to previous learning or homework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se teacher-directed instruction to clarify or introduce new material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se student-centered learning activities requiring active student engagement.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120" y="4572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Techniques for Teaching Bell-to-Bell  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52120" y="20574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se summary-reflective dialogue to check for mastery and establish links with future learning or homework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lan for four learning segments of about the same length during a class period to help with pacing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trategy # 3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205704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reate classroom organization and arrangement that spurs productivity.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lassroom Organization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52120" y="2057400"/>
            <a:ext cx="6705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splay samples of good student work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se non-traditional seating arrangements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ore materials at pick-up points that are easily accessible to students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stablish a routine place to drop off homework and pick up graded papers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inimize distractions, motion and clutter.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trategy #4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52120" y="205704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Establish high expectations.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120" y="4572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High Expectation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52120" y="2057040"/>
            <a:ext cx="6705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is strategy addresses 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academic expectations.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High Expectation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52120" y="2057400"/>
            <a:ext cx="67057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What does it take for me to earn an A or B on this assignment or in this class?”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High Expectation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52120" y="2057040"/>
            <a:ext cx="6705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ays to establish high expectations include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howing students samples of well thought out solutions to mathematics problems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etting students listen to a recording of an orchestra playing a new piece of music before sight-reading the music for the first time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2057040"/>
            <a:ext cx="6705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o share the training that we received at my school about the 10 effective strategies for establishing a culture of high expectations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o help you evaluate the implementation of these strategies at your school site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High Expectation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52120" y="2057040"/>
            <a:ext cx="6705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etting students watch a video of an operating four-stroke engine before teaching about the individual parts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etting students hear a well-written essay read aloud and review copies of it before having them write one.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viding rubrics or engaging students in the development of a rubric for an assignment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High Expectation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52120" y="2057040"/>
            <a:ext cx="6705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eachers must never accept F work!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stablish a new grading criteria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Y (Not Yet!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High Expectation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2120" y="2057400"/>
            <a:ext cx="67057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arning! Engaging students in learning trivia, things they already know or things that they will not use immediately wastes precious teaching time.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4572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trategy #5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52120" y="2057400"/>
            <a:ext cx="6705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mmunicate expectations to students and parents.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ommunicating Expectations of 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Quality Work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120" y="2057400"/>
            <a:ext cx="6705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municate that students and parents are active partners in the responsibility for producing quality work.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cus on how to communicate exactly what students are doing and what they need to do to produce higher quality work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120" y="4572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ommunicating Expectations of 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Quality Work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52120" y="20574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municate progress with students and parents at least weekly.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op the cycle of “surprise reports”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se as many details as possible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9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enchmarks and Standard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9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ate Assessment Categori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9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ubric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trategy # 6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52120" y="2057040"/>
            <a:ext cx="6705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he student as worker: Implement instructional activities that actively engage students.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Actively Engage Students 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52120" y="2057040"/>
            <a:ext cx="6705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best motivational tool for students is personal involvement in something that produces a clear result and is interesting to them.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120" y="4572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Ways to Actively Engage Students 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120" y="2057040"/>
            <a:ext cx="6705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lan for and expect writing of more than one page each week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ad with and to students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se reading as the primary homework activity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urvey students to compile a list of common interests that can be incorporated into lessons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4572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Ways to Actively Engage Students 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52120" y="2057040"/>
            <a:ext cx="6705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se a variety of sources for every unit of instruction.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se cooperative and project-based learning that requires students to develop group process, time management, planning and communication skills along with content mastery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core Sheet</a:t>
            </a:r>
            <a:br>
              <a:rPr sz="32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or each of the 10 strategies listed, 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please think about your school and grade it according to the below scale. 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752480" y="2057400"/>
          <a:ext cx="6705720" cy="3765600"/>
        </p:xfrm>
        <a:graphic>
          <a:graphicData uri="http://schemas.openxmlformats.org/drawingml/2006/table">
            <a:tbl>
              <a:tblPr/>
              <a:tblGrid>
                <a:gridCol w="1447920"/>
                <a:gridCol w="525780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ra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Garamond Semibol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Garamond Semi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Garamond Semibol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5-100 percent of teachers already use this strateg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Garamond Semi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Garamond Semibol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0-75 percent of teachers already use this strateg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Garamond Semi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Garamond Semibol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5-50 percent of teachers already use this strateg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Garamond Semi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Y (Not yet!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Garamond Semibol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-25 percent of teachers already use this strateg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Garamond Semi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ll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trategy # 7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52120" y="205704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Keep students on target.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Keeping Students on Target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52120" y="2057400"/>
            <a:ext cx="6705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tudents will choose to do those things that they deem of interest to them and have definite value.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Keeping Students on Target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52120" y="2057400"/>
            <a:ext cx="67057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se quality homework assignments facilitate the learning necessary to attain required knowledge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liminate “skill, drill and overkill” practice.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120" y="4572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Keeping Students on Target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52120" y="2057400"/>
            <a:ext cx="67057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eachers should plan class time for students to proof and give feedback on the work of peers to improve the quality of what teachers read and grade.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52120" y="4572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Keeping Students on Target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52120" y="2057040"/>
            <a:ext cx="6705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sing Assessment Results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o chart student progress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s a tool to promote advanced courses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o establish what is needed for extra-help sessions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o create individualized learning plans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o celebrate success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52120" y="4572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trategy # 8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52120" y="20574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Encourage frequent and relevant feedback that works.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Frequent and Relevant Feedback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52120" y="2057040"/>
            <a:ext cx="6705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ovide feedback to guide students through new learning experiences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Frequent and Relevant Feedback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52120" y="2057040"/>
            <a:ext cx="6705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egin and end every instructional segment with a review of past learning and the big picture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se good questioning feedback techniques to keep students focused and directed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spire students to probe “why?” and “how do you know that you know?”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quire students to express their thinking and learning through speaking, writing and designing new solutions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Frequent and Relevant Feedback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52120" y="2057040"/>
            <a:ext cx="6705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vide students with opportunities to give feedback on the quality and effectiveness of assignments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sk students how they would like to receive help and participate in the learning process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ive students opportunities to help construct the classroom activities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trategy # 9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52120" y="2057400"/>
            <a:ext cx="6705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Establish grading practices that communicate high expectations and decrease frustration.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Overview of Strategie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480" y="2057040"/>
            <a:ext cx="3276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lassroom Motivation and Management Plan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ell-to-Bell Teach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lassroom Organiza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igh Expectation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municating Expectation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81480" y="2057040"/>
            <a:ext cx="3276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ctively Engaging Studen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eeping Students on Targe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viding Relevant Feedback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rading Practic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naging Behavior Issu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Grading Practice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52120" y="2057400"/>
            <a:ext cx="6705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se scoring guides that clearly define what the expectations are for earning top grades (As, Bs); acceptable grades (Cs); and Not Yet! (NY) for work that is not accepted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Grading Practice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120" y="2057400"/>
            <a:ext cx="6782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se resources to communicate to parents and students areas of strength and weakness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ive students more that just a number or letter grade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municate standards and benchmarks that have been mastered on assessments and those that need extra work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120" y="4572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trategy # 10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52120" y="205704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eal with severe behavior.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Managing Behavior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52120" y="2057040"/>
            <a:ext cx="6705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ave clearly defined policies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municate discipline policies to all stakeholders (parents, students and teachers)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sk for input from all stakeholders in the development of policies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municate policies and consequences on a regular basis. Once is not enough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Managing Behavior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52120" y="20574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e proactive. When there are actions that appear minor, but hold the potential of inciting more serious behaviors, act accordingly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pply consequences, no matter who the violator is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sider consequences that remove the student offender for the least amount of time from instruction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clude parents in the disciplining of repeat offenders and development of behavior improvement plans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The Final Word on Behavior…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7315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99"/>
                </a:solidFill>
                <a:latin typeface="Arial"/>
              </a:rPr>
              <a:t>Consistency</a:t>
            </a:r>
            <a:endParaRPr b="0" lang="en-US" sz="8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52120" y="4572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In Closing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52120" y="2057040"/>
            <a:ext cx="6705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tivation, instructional planning, parent engagement, teacher efficacy and consistency of high expectations are irrevocably intertwined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climate that fosters and values respect, decency and success for EVERY student and staff member is what schools should strive for in their policies and practices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For More Information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52120" y="20574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sreb.org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ublications for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High Schools That Work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en Strategies for Creating a Classroom Culture of High Expectations (Site Development Guide #13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trategy #1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52120" y="20570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Help all teachers develop, communicate and implement classroom motivation and management plans.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4572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lassroom Motivation &amp; Management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120" y="2057040"/>
            <a:ext cx="6705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eachers, preferably working in teams, can develop written classroom motivation and management plans.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lans are then communicated in writing to parents and students, explained orally and posted in classrooms permanently.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veryone on staff conveys the same consistent message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120" y="4572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omponents of a Classroom Motivation &amp; Management Plan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52120" y="2057040"/>
            <a:ext cx="6705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nstructional goals and outcom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assroom policies, rules and procedur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pectations for student performance and behavior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sequences and reward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pportunities for extra help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mmunication pla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4572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trategy #2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2057040"/>
            <a:ext cx="70106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evelop instructional plans that facilitate bell-to-bell teaching.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Teaching Bell-to-Bell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52120" y="2057040"/>
            <a:ext cx="6705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lace emphasis on maximizing the limited time teachers have with students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municate high expectations for on-task behavior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8:32:31Z</dcterms:created>
  <dc:creator>Registered User</dc:creator>
  <dc:description/>
  <dc:language>en-US</dc:language>
  <cp:lastModifiedBy>E. Hughes</cp:lastModifiedBy>
  <cp:lastPrinted>1999-04-23T16:35:02Z</cp:lastPrinted>
  <dcterms:modified xsi:type="dcterms:W3CDTF">2011-06-30T17:13:07Z</dcterms:modified>
  <cp:revision>42</cp:revision>
  <dc:subject/>
  <dc:title>Slide 1</dc:title>
</cp:coreProperties>
</file>